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254F5-224E-43D3-A0E3-121066A6D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48751-3381-494B-8D67-7887CF3D3C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5ABB0-B203-4D75-984F-A6EF91AEFFC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BFDAC-DB5E-49F0-AEC3-21BA35F496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FCC56-909E-4B64-BD3B-03E854F088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5F1CF-D6B6-447C-84A7-411E026E2A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EE8E2-8C06-4942-931D-04437DE06A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B9089-9911-4810-9BC9-7842282173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E59B3-2E72-426F-8997-F75A06EE0D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D917-99DF-4CA4-904B-A9D2F7EBC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7974-EB80-46C7-A740-F84346D4C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076C-0DD6-4421-968F-EC223728C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A7C8-78D9-4E49-9EDB-AF49689BD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0DD84-5CBC-40EE-B1E9-CFE89847F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4C4FE-3E12-418B-939A-1DF1FC104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06719-0454-4413-A1D5-D3590BAD3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A653D-2D20-4AAF-903A-B68948373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7E141-7CD9-462A-8EAA-CF7C2E886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AF653-A62B-435A-AC53-6F241F827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7AE81-F5A4-47D7-9669-575CF470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7D64-7D5C-4140-93EB-50A2317A5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1C273-2E0F-48C2-8ACD-B6427CFA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637B0-1103-410F-8D17-5E4252E8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E94AE-6CC0-4048-B739-1969AC622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0F2AC-FC7B-42BA-AE37-320566A03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9928F-2A95-4942-A233-9C95E6E9B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19A3A-14D3-433A-B073-A0CA25A0B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C3E66-AEC9-401F-BABF-ACAA0EC0C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4186A-AC6E-478A-82EC-EB14B8AD2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EF2F0-3140-4FEE-8D1B-8671E23A7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C0384-9EA3-4888-AAA8-9A9A7CC62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C3EE-1249-41D8-9596-279F076D6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48CF3-11DE-4E96-A2E8-57CB256E2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12C82-E600-4B09-8AC7-67EBD3D4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CC13C-CBB6-4646-80B1-6E18C702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2983E-76DA-4E9D-ACDC-69A31A2D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60FF9-E595-4B2E-AC04-83C3081E9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53DD4-1158-4503-9FEA-F2172FA8E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3FA76-3527-4661-8ED9-A25F7EF44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3967-9E7D-4AA3-97F2-67BED97B0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79BE-0629-4B42-9A06-C2EE40D08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D08B-4E66-4ADB-B7E5-4332BB7E4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3A97-7AF6-4D25-A618-C74D092A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D4EA-2ECE-4475-BD35-950113F6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4D29-C610-4551-B76E-6CC9A583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a58"/>
            </a:gs>
            <a:gs pos="50000">
              <a:srgbClr val="00716e"/>
            </a:gs>
            <a:gs pos="100000">
              <a:srgbClr val="005a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4BD3B-9EBD-44C9-ACCE-E07AE2500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3D433-E306-473C-A1D3-6A44B83BD0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a58"/>
            </a:gs>
            <a:gs pos="50000">
              <a:srgbClr val="00716e"/>
            </a:gs>
            <a:gs pos="100000">
              <a:srgbClr val="005a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18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2CE3C-161A-46E6-B0C3-345A8DE68D6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eorgia"/>
              </a:rPr>
              <a:t>The Challenges of Modern Feder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3" descr="yli"/>
          <p:cNvPicPr/>
          <p:nvPr/>
        </p:nvPicPr>
        <p:blipFill>
          <a:blip r:embed="rId1"/>
          <a:stretch/>
        </p:blipFill>
        <p:spPr>
          <a:xfrm>
            <a:off x="7620120" y="5943600"/>
            <a:ext cx="990360" cy="4237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scrap"/>
          <p:cNvPicPr/>
          <p:nvPr/>
        </p:nvPicPr>
        <p:blipFill>
          <a:blip r:embed="rId2"/>
          <a:stretch/>
        </p:blipFill>
        <p:spPr>
          <a:xfrm>
            <a:off x="838080" y="1981080"/>
            <a:ext cx="2949840" cy="3429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scrap"/>
          <p:cNvPicPr/>
          <p:nvPr/>
        </p:nvPicPr>
        <p:blipFill>
          <a:blip r:embed="rId3"/>
          <a:stretch/>
        </p:blipFill>
        <p:spPr>
          <a:xfrm>
            <a:off x="4419720" y="2286000"/>
            <a:ext cx="4114800" cy="273528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6"/>
          <p:cNvSpPr/>
          <p:nvPr/>
        </p:nvSpPr>
        <p:spPr>
          <a:xfrm>
            <a:off x="1295280" y="55627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762120" y="54100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York, September 20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5031000" y="5029200"/>
            <a:ext cx="305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Orleans, August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Federalism is…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system of government in which political authority is divided between a national (or federal) government, and its political subdivisions (such as state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Federalism is…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system where national and state governments each have defined powers, with some being shared by both and some being denied to bo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240" y="277920"/>
            <a:ext cx="853452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Dual Federalism (1789-1932)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deral and state governments are co-equals, each sovere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rrow interpretation of the Constit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deral government only has jurisdiction if clear expressed in the Constitution (ex: coin money, foreign affair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 have greater role and powers (ex: public education, race rela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495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hat does 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duel federalism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have in common with a layer ca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0" descr="scrap"/>
          <p:cNvPicPr/>
          <p:nvPr/>
        </p:nvPicPr>
        <p:blipFill>
          <a:blip r:embed="rId1"/>
          <a:stretch/>
        </p:blipFill>
        <p:spPr>
          <a:xfrm>
            <a:off x="1523880" y="838080"/>
            <a:ext cx="624852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8390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Cooperative Federalism (1933-present)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ional government clearly supreme over the states with wide interpretation of the “necessary and proper clause” (Article I, Sect. 8 of the Constitution, also known as the “elastic clause.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deral government intervenes or assists in some areas traditionally left to the states (ex: education, health care, civil righ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gan with the New Deal in the 1930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hat does 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cooperative federalism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have in common with a marble ca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029" descr="scrap"/>
          <p:cNvPicPr/>
          <p:nvPr/>
        </p:nvPicPr>
        <p:blipFill>
          <a:blip r:embed="rId1"/>
          <a:stretch/>
        </p:blipFill>
        <p:spPr>
          <a:xfrm>
            <a:off x="1990800" y="1600200"/>
            <a:ext cx="508320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eorgia"/>
              </a:rPr>
              <a:t>Political Cartoon #1 Title: Another Perfect St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838080" y="5943600"/>
            <a:ext cx="8077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rtist:  Jeff Danziger      Date:  September, 2005  http://cartoonbox.slate.com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8" descr=""/>
          <p:cNvPicPr/>
          <p:nvPr/>
        </p:nvPicPr>
        <p:blipFill>
          <a:blip r:embed="rId1"/>
          <a:stretch/>
        </p:blipFill>
        <p:spPr>
          <a:xfrm>
            <a:off x="762120" y="861840"/>
            <a:ext cx="7619760" cy="51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Georgia"/>
              </a:rPr>
              <a:t>Political Cartoon #3  Title:  Homeland Security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990720" y="5715000"/>
            <a:ext cx="7924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imes New Roman"/>
              </a:rPr>
              <a:t>      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rtist:  Mike Keefe,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The Denver Post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  Date:  September,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5" descr="scrap"/>
          <p:cNvPicPr/>
          <p:nvPr/>
        </p:nvPicPr>
        <p:blipFill>
          <a:blip r:embed="rId1"/>
          <a:stretch/>
        </p:blipFill>
        <p:spPr>
          <a:xfrm>
            <a:off x="762120" y="1066680"/>
            <a:ext cx="75438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0T02:40:40Z</dcterms:created>
  <dc:creator>Molly Miracle</dc:creator>
  <dc:description/>
  <dc:language>en-US</dc:language>
  <cp:lastModifiedBy>hberndt</cp:lastModifiedBy>
  <dcterms:modified xsi:type="dcterms:W3CDTF">2010-02-24T15:45:32Z</dcterms:modified>
  <cp:revision>71</cp:revision>
  <dc:subject/>
  <dc:title>Slide 1</dc:title>
</cp:coreProperties>
</file>